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D06-54BF-4400-A8B1-F681F94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828-7F80-4BE9-91E8-B9E2D48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B2C-0583-41D2-9E8C-8307BA2A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5E7-71F9-4688-8C00-BDD15874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59CF-C190-4377-968B-05639F3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FA5-D8CE-4DEB-81B6-2BD9F8F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E867-E462-40F0-A5C7-B6E46E5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2862-4B42-48CC-892F-C9EB780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CAE-E81D-4C80-84D2-1B27D67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899-7FFC-436D-943D-69CFE33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AB53-DDEC-4611-B829-7136DF4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CF6-74C9-4A37-9EC0-93E5ADB7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4A0-798C-4C2C-AF88-2A9605A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69B-B06A-4E4A-8901-99C3CCD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A88B-BA5F-4373-8363-2F0F8B63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5250-414E-4279-810C-345F4323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F1F-806F-4F4E-9072-632C7BC6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881-BC43-45EA-AD57-9F0349B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F24-6090-41CC-AE81-C59CE29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6F2-A7BE-4A54-8850-0AB896E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032-48FF-487F-9B89-080D59E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798-00A0-47DC-AFFD-5E6764A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016-3AE3-40A8-8597-51D40BF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12A-6CCF-4691-AF60-7225B9B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BD6-504C-4845-83B8-34C080CD6FD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03A-3007-45FA-8D30-477D50076C1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Dangerous Game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y Richard Connel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me things to kno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33" name="Object 1029"/>
          <p:cNvGraphicFramePr/>
          <p:nvPr/>
        </p:nvGraphicFramePr>
        <p:xfrm>
          <a:off x="1143000" y="2514600"/>
          <a:ext cx="15462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1546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DO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e would of froze during the blizzard but they seen an empty house that protected them from the biting winds coming off of the appalachian mountain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Lee was watching the movie the sixth sense-at least I think he said that-when the video player stopped working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alogies-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andpaper:smooth:: mill: ________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mnesia :remember::______: sleep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cuss homework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gin sto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 ques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eshado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ive hints about future ev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mage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tails that appeal to the five sens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otif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ttern of images or symb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this story darkness is the moti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llus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ference to a famous work of art, literature, music, etc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yperbo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treme exaggeration for effec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t for the 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447920" y="5486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3429000" y="3124080"/>
            <a:ext cx="152388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952880" y="3124080"/>
            <a:ext cx="13716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6324480" y="54864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371600" y="57150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position --introduces the characters, background and set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038480" y="457200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 -- struggle between opposing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76520" y="3352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ising Action -- three statements that summarize the s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962520" y="220968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x-- point where the protagonist ch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791320" y="29718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ling action -- one statement about what leads to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40080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solution --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aracter Analysis of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iz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for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2362320"/>
            <a:ext cx="67820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sford doesn’t view hunting animals as mu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animals don’t understand f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that Zaroff is a murderer because he hunts people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Direct characteriz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either evil or animalisti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ck black eyebrows and pointed black moustache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ack, bright ey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ad black eyes (pg. 23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ious, red-lipped smile (18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extual Analysis Terms and Definition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ug. 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8:00:12Z</dcterms:created>
  <dc:creator>Cumberland County Schools</dc:creator>
  <dc:description/>
  <dc:language>en-US</dc:language>
  <cp:lastModifiedBy>Angie McCall</cp:lastModifiedBy>
  <dcterms:modified xsi:type="dcterms:W3CDTF">2011-08-24T19:19:44Z</dcterms:modified>
  <cp:revision>24</cp:revision>
  <dc:subject/>
  <dc:title>“The Most Dangerous Game” by Richard Connell</dc:title>
</cp:coreProperties>
</file>